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APPLAUSE.WAV" ContentType="audio/x-wav"/>
  <Override PartName="/ppt/media/image3.wmf" ContentType="image/x-wmf"/>
  <Override PartName="/ppt/media/image4.wmf" ContentType="image/x-wmf"/>
  <Override PartName="/ppt/media/GUNSHOT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A74-272B-4D86-A383-DD59AC3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948-EAC7-45FE-B0B1-F18AB1E8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AE2-62EF-4B57-8E8E-A13AE46E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590-EC1D-406D-8839-21AC2685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379F-3326-45AD-8C39-08567E5F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EC92-9A31-4C25-999C-B953138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775-044E-4D17-B55F-2A0712F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D74-45CC-4FA5-9471-C87A634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2668-A038-45F2-B2A8-04F3E3BD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577-B584-4D4A-B756-24EA3E2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0BD-6F46-4A20-A5ED-40DABB8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AC2-A77F-4AF5-A666-3CF4905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AAD5-6E5B-493A-86A4-718696D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1634-E010-4DFA-854B-EE395DB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EE3C-E498-4D05-A7D1-07E210A4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EECD-25DD-45A3-BF0A-C8F2E94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96A2-B5FB-4136-87D3-5438F1BD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5EF-65C9-48D3-90B9-CF1AE23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67F-7DCA-4413-AFE4-B44CD9ED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9D9-6F63-4F99-9FD1-36825A28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BA0-B4DB-4CA7-BF6E-F9525E4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A02-F9B6-49CB-AB00-07C5A8D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76B-463A-4349-92BA-F516F34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E43-2BD5-4F7A-8D25-DD49CC5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1BD-BC49-4AC2-A13E-7E42C31F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F146-62D6-4B83-B5E3-71CECDA0A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3124080" y="2286000"/>
            <a:ext cx="49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El Imperfecto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69960" y="151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046520" y="1819440"/>
            <a:ext cx="41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ngs that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s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hap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54720" y="265752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ando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er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ven m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gustab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r al parq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dos los d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26640" y="3724200"/>
            <a:ext cx="57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I was young I used to like go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the park every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59000" y="1819440"/>
            <a:ext cx="57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ces,objects and peopl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(in the pa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44040" y="2657520"/>
            <a:ext cx="74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chica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r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lta,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en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l pelo largo y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llevab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gaf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55920" y="3648240"/>
            <a:ext cx="70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irl was tall, had long hair and wore g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35000" y="1666800"/>
            <a:ext cx="71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ground description that is secondary to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in action (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n the pa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600200" y="2962440"/>
            <a:ext cx="71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r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as doce de la noche.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ac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viento 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lov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El asesi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ó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n la casa con una pistol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96920" y="456264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as midnight. It was windy and it was raining.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rderer entered the house with a pist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actic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ando yo ___________ (ser) niñ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mpre ____________ (jugar) con mis blo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hermano le ____________ (gustar) trepar a los árbo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hermana no ____________ (comer) los legumb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 _____________ (salir) con amigos para el par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1066680" y="1981080"/>
            <a:ext cx="7239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 tense in Spanish is us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cribe things that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s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hap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ces,objects and people (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n the pa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background description that is secondary to the main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7320" y="1819440"/>
            <a:ext cx="85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formed by taking the stem of the infinitive and ad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ndings as fo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56400" y="303840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 verbs  e.g. habl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03320" y="357192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90720" y="4267080"/>
            <a:ext cx="19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50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495680" y="358128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571640" y="426708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495680" y="502920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205640" y="197172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r 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34520" y="27338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 com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6720" y="3429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808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0880" y="464832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30760" y="3429000"/>
            <a:ext cx="31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86200" y="4038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962520" y="4638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49480" y="197172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 viv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23360" y="265752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32800" y="311472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94600" y="349560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343400" y="2581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343400" y="3038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34340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17480" y="14382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R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03480" y="1971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Object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19560" cy="3570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4"/>
          <p:cNvSpPr/>
          <p:nvPr/>
        </p:nvSpPr>
        <p:spPr>
          <a:xfrm>
            <a:off x="2514600" y="1676520"/>
            <a:ext cx="3352680" cy="1523880"/>
          </a:xfrm>
          <a:prstGeom prst="wedgeRectCallout">
            <a:avLst>
              <a:gd name="adj1" fmla="val 56296"/>
              <a:gd name="adj2" fmla="val 3520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ess the good new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43208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Object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/>
          <p:cNvSpPr/>
          <p:nvPr/>
        </p:nvSpPr>
        <p:spPr>
          <a:xfrm>
            <a:off x="3657600" y="2209680"/>
            <a:ext cx="3657600" cy="1981440"/>
          </a:xfrm>
          <a:prstGeom prst="wedgeRoundRectCallout">
            <a:avLst>
              <a:gd name="adj1" fmla="val -104296"/>
              <a:gd name="adj2" fmla="val -23319"/>
              <a:gd name="adj3" fmla="val 16667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 irregul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bs in the imperfe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3200" y="1847880"/>
            <a:ext cx="1875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ÉR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00400" y="1447920"/>
            <a:ext cx="17654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ÍB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019920" y="1371600"/>
            <a:ext cx="22096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812960" y="2886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Object 3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4708440" cy="37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5089680" y="3038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Object 5" descr=""/>
          <p:cNvPicPr/>
          <p:nvPr/>
        </p:nvPicPr>
        <p:blipFill>
          <a:blip r:embed="rId2"/>
          <a:stretch/>
        </p:blipFill>
        <p:spPr>
          <a:xfrm>
            <a:off x="1298520" y="2575080"/>
            <a:ext cx="6546960" cy="1706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782240" y="17431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79520" y="30384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eter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884160" y="494352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 sets the scene in the past and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terite ‘crashes’into it, with a single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8:36:28Z</dcterms:created>
  <dc:creator>Wirral Girls</dc:creator>
  <dc:description/>
  <dc:language>en-US</dc:language>
  <cp:lastModifiedBy>jkaplan</cp:lastModifiedBy>
  <cp:lastPrinted>2002-11-20T20:30:30Z</cp:lastPrinted>
  <dcterms:modified xsi:type="dcterms:W3CDTF">2011-05-20T14:33:59Z</dcterms:modified>
  <cp:revision>4</cp:revision>
  <dc:subject/>
  <dc:title>No Slide Title</dc:title>
</cp:coreProperties>
</file>